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chimes.wav" ContentType="audio/x-wav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9.jpeg" ContentType="image/jpeg"/>
  <Override PartName="/ppt/media/image31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33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2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A15-61E8-4427-88D3-21831E8B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F42-04F7-42E0-B71F-C3117CE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A86-C71C-4E1B-A5FD-1C2A437B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8F1-F392-4D17-A5CE-CF3477AB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9A73-8043-4479-974A-B9DF58B7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873E-FB70-4420-ADEF-F4DD5207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76AF-F3E8-4C4C-9F79-7E4453E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6630-D517-46AE-B1A3-8C4F0698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6C03-0381-40BF-A49F-1E298DB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DB60-A121-40BF-8F0D-79E9A87A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7C12-CCB7-4AD2-9027-87360B1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3D5-019D-4228-BFD0-4B1438C1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4C4A-0DDE-46E0-94EF-D217D17E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5D0C-9F85-4D4E-ADC6-E863B92E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C6F-F80E-4F66-BD32-8AE1EA5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71C8-70CF-49DE-9415-F1808AF7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C251-2AB1-404A-882D-1BC7F183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92F-2007-4244-9CF6-B487180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97E-71B7-4E1B-9916-3092D4AB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DEB-EDCF-4900-9B13-05510506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A24-9330-4395-BE48-EE0C794F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BBC-67AC-4F88-9B9B-D80173B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A5A-F531-453D-8512-621D47B8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055-BF32-4B85-978F-6151333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1E3-060E-4898-8BAF-B6EC225B2C4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AEB-AEBC-4B35-A8F2-45D17CA2CFD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spomniv.ru/t26.htm" TargetMode="External"/><Relationship Id="rId2" Type="http://schemas.openxmlformats.org/officeDocument/2006/relationships/hyperlink" Target="http://vspomniv.ru/t28.htm" TargetMode="External"/><Relationship Id="rId3" Type="http://schemas.openxmlformats.org/officeDocument/2006/relationships/hyperlink" Target="http://vspomniv.ru/bt7.htm" TargetMode="External"/><Relationship Id="rId4" Type="http://schemas.openxmlformats.org/officeDocument/2006/relationships/hyperlink" Target="http://vspomniv.ru/t60.htm" TargetMode="External"/><Relationship Id="rId5" Type="http://schemas.openxmlformats.org/officeDocument/2006/relationships/hyperlink" Target="http://vspomniv.ru/t70.htm" TargetMode="External"/><Relationship Id="rId6" Type="http://schemas.openxmlformats.org/officeDocument/2006/relationships/hyperlink" Target="http://vspomniv.ru/t_35.htm" TargetMode="External"/><Relationship Id="rId7" Type="http://schemas.openxmlformats.org/officeDocument/2006/relationships/hyperlink" Target="http://vspomniv.ru/t34.htm" TargetMode="External"/><Relationship Id="rId8" Type="http://schemas.openxmlformats.org/officeDocument/2006/relationships/hyperlink" Target="http://vspomniv.ru/kv1.htm" TargetMode="External"/><Relationship Id="rId9" Type="http://schemas.openxmlformats.org/officeDocument/2006/relationships/hyperlink" Target="http://vspomniv.ru/kv2.htm" TargetMode="External"/><Relationship Id="rId10" Type="http://schemas.openxmlformats.org/officeDocument/2006/relationships/hyperlink" Target="http://vspomniv.ru/is2.htm" TargetMode="External"/><Relationship Id="rId11" Type="http://schemas.openxmlformats.org/officeDocument/2006/relationships/image" Target="../media/image18.png"/><Relationship Id="rId12" Type="http://schemas.openxmlformats.org/officeDocument/2006/relationships/slide" Target="slide7.xml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6.png"/><Relationship Id="rId3" Type="http://schemas.openxmlformats.org/officeDocument/2006/relationships/slide" Target="slide12.xml"/><Relationship Id="rId4" Type="http://schemas.openxmlformats.org/officeDocument/2006/relationships/image" Target="../media/image17.png"/><Relationship Id="rId5" Type="http://schemas.openxmlformats.org/officeDocument/2006/relationships/slide" Target="slide13.xml"/><Relationship Id="rId6" Type="http://schemas.openxmlformats.org/officeDocument/2006/relationships/image" Target="../media/image18.png"/><Relationship Id="rId7" Type="http://schemas.openxmlformats.org/officeDocument/2006/relationships/slide" Target="slide14.xml"/><Relationship Id="rId8" Type="http://schemas.openxmlformats.org/officeDocument/2006/relationships/image" Target="../media/image19.png"/><Relationship Id="rId9" Type="http://schemas.openxmlformats.org/officeDocument/2006/relationships/slide" Target="slide15.xml"/><Relationship Id="rId10" Type="http://schemas.openxmlformats.org/officeDocument/2006/relationships/image" Target="../media/image20.png"/><Relationship Id="rId11" Type="http://schemas.openxmlformats.org/officeDocument/2006/relationships/slide" Target="slide16.xml"/><Relationship Id="rId12" Type="http://schemas.openxmlformats.org/officeDocument/2006/relationships/image" Target="../media/image21.png"/><Relationship Id="rId13" Type="http://schemas.openxmlformats.org/officeDocument/2006/relationships/slide" Target="slide17.xml"/><Relationship Id="rId14" Type="http://schemas.openxmlformats.org/officeDocument/2006/relationships/image" Target="../media/image22.png"/><Relationship Id="rId15" Type="http://schemas.openxmlformats.org/officeDocument/2006/relationships/slide" Target="slide18.xml"/><Relationship Id="rId16" Type="http://schemas.openxmlformats.org/officeDocument/2006/relationships/image" Target="../media/image23.png"/><Relationship Id="rId17" Type="http://schemas.openxmlformats.org/officeDocument/2006/relationships/slide" Target="slide19.xml"/><Relationship Id="rId18" Type="http://schemas.openxmlformats.org/officeDocument/2006/relationships/image" Target="../media/image24.png"/><Relationship Id="rId19" Type="http://schemas.openxmlformats.org/officeDocument/2006/relationships/slide" Target="slide20.xml"/><Relationship Id="rId20" Type="http://schemas.openxmlformats.org/officeDocument/2006/relationships/image" Target="../media/image25.png"/><Relationship Id="rId21" Type="http://schemas.openxmlformats.org/officeDocument/2006/relationships/slide" Target="slide21.xml"/><Relationship Id="rId22" Type="http://schemas.openxmlformats.org/officeDocument/2006/relationships/image" Target="../media/image26.png"/><Relationship Id="rId23" Type="http://schemas.openxmlformats.org/officeDocument/2006/relationships/slide" Target="slide22.xml"/><Relationship Id="rId24" Type="http://schemas.openxmlformats.org/officeDocument/2006/relationships/image" Target="../media/image27.png"/><Relationship Id="rId25" Type="http://schemas.openxmlformats.org/officeDocument/2006/relationships/slide" Target="slide23.xml"/><Relationship Id="rId26" Type="http://schemas.openxmlformats.org/officeDocument/2006/relationships/image" Target="../media/image28.png"/><Relationship Id="rId27" Type="http://schemas.openxmlformats.org/officeDocument/2006/relationships/slide" Target="slide24.xml"/><Relationship Id="rId28" Type="http://schemas.openxmlformats.org/officeDocument/2006/relationships/image" Target="../media/image29.png"/><Relationship Id="rId29" Type="http://schemas.openxmlformats.org/officeDocument/2006/relationships/slide" Target="slide25.xml"/><Relationship Id="rId30" Type="http://schemas.openxmlformats.org/officeDocument/2006/relationships/image" Target="../media/image30.png"/><Relationship Id="rId31" Type="http://schemas.openxmlformats.org/officeDocument/2006/relationships/slide" Target="slide26.xml"/><Relationship Id="rId32" Type="http://schemas.openxmlformats.org/officeDocument/2006/relationships/image" Target="../media/image31.png"/><Relationship Id="rId33" Type="http://schemas.openxmlformats.org/officeDocument/2006/relationships/slide" Target="slide27.xml"/><Relationship Id="rId34" Type="http://schemas.openxmlformats.org/officeDocument/2006/relationships/image" Target="../media/image32.png"/><Relationship Id="rId35" Type="http://schemas.openxmlformats.org/officeDocument/2006/relationships/slide" Target="slide28.xml"/><Relationship Id="rId36" Type="http://schemas.openxmlformats.org/officeDocument/2006/relationships/image" Target="../media/image33.png"/><Relationship Id="rId37" Type="http://schemas.openxmlformats.org/officeDocument/2006/relationships/slide" Target="slide29.xml"/><Relationship Id="rId38" Type="http://schemas.openxmlformats.org/officeDocument/2006/relationships/image" Target="../media/image34.png"/><Relationship Id="rId39" Type="http://schemas.openxmlformats.org/officeDocument/2006/relationships/slide" Target="slide30.xml"/><Relationship Id="rId40" Type="http://schemas.openxmlformats.org/officeDocument/2006/relationships/image" Target="../media/image35.png"/><Relationship Id="rId41" Type="http://schemas.openxmlformats.org/officeDocument/2006/relationships/slide" Target="slide31.xml"/><Relationship Id="rId42" Type="http://schemas.openxmlformats.org/officeDocument/2006/relationships/image" Target="../media/image36.png"/><Relationship Id="rId43" Type="http://schemas.openxmlformats.org/officeDocument/2006/relationships/slide" Target="slide32.xml"/><Relationship Id="rId44" Type="http://schemas.openxmlformats.org/officeDocument/2006/relationships/image" Target="../media/image37.png"/><Relationship Id="rId45" Type="http://schemas.openxmlformats.org/officeDocument/2006/relationships/slide" Target="slide33.xml"/><Relationship Id="rId46" Type="http://schemas.openxmlformats.org/officeDocument/2006/relationships/image" Target="../media/image38.png"/><Relationship Id="rId47" Type="http://schemas.openxmlformats.org/officeDocument/2006/relationships/slide" Target="slide34.xml"/><Relationship Id="rId48" Type="http://schemas.openxmlformats.org/officeDocument/2006/relationships/image" Target="../media/image39.png"/><Relationship Id="rId4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ser\Desktop\кл час удтк\07-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1017720" y="950760"/>
            <a:ext cx="7108560" cy="24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908000" y="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95280" y="1341360"/>
            <a:ext cx="8353440" cy="1511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Уральский регион сыграл значительную роль в годы ВОв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акие эвакуированные предприятия оказались на Урале? Назовите три предприятия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0"/>
          <p:cNvSpPr/>
          <p:nvPr/>
        </p:nvSpPr>
        <p:spPr>
          <a:xfrm rot="10800000">
            <a:off x="4824360" y="3500280"/>
            <a:ext cx="378000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сего-830 предприяти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Область-212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Ижорски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Харьков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Мариупольский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раматор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Сталин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Невски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2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95280" y="1111320"/>
            <a:ext cx="8353440" cy="15984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«Фрау Маресьева»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то она? Что вы о ней знает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8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ария Логунов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на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будучи инвалидом после войны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лихо взобралась на танк и проехала в нём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0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95280" y="1341360"/>
            <a:ext cx="8353440" cy="1727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ие танки выпускались на заводах Урала в годы войн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8"/>
          <p:cNvSpPr/>
          <p:nvPr/>
        </p:nvSpPr>
        <p:spPr>
          <a:xfrm rot="10800000">
            <a:off x="4716360" y="3500280"/>
            <a:ext cx="3743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Т-26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Т-28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БТ-7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T-6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Т-7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6"/>
              </a:rPr>
              <a:t>Т-35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7"/>
              </a:rPr>
              <a:t>Т-34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8"/>
              </a:rPr>
              <a:t>КВ-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9"/>
              </a:rPr>
              <a:t>КВ-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ahoma"/>
                <a:hlinkClick r:id="rId10"/>
              </a:rPr>
              <a:t>ИС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20" descr="Рисунок3"/>
          <p:cNvPicPr/>
          <p:nvPr/>
        </p:nvPicPr>
        <p:blipFill>
          <a:blip r:embed="rId1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21">
            <a:hlinkClick r:id="rId1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то был первым командиром 30-го танкового корпуса в годы войн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6"/>
          <p:cNvSpPr/>
          <p:nvPr/>
        </p:nvSpPr>
        <p:spPr>
          <a:xfrm rot="10800000">
            <a:off x="5076360" y="3499920"/>
            <a:ext cx="3311640" cy="244980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енерал-лейтенант  Георгий Семёнович Руд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18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9" descr="Рисунок4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5280" y="1341360"/>
            <a:ext cx="8353440" cy="1727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ого в годы войны называли  «Королём танков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саак Зольцм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9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то из  рабочих Уралмашзавода стал полным кавалером Ордена  Слав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28760" y="4076640"/>
            <a:ext cx="20001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6"/>
          <p:cNvSpPr/>
          <p:nvPr/>
        </p:nvSpPr>
        <p:spPr>
          <a:xfrm rot="10800000">
            <a:off x="4286160" y="3573360"/>
            <a:ext cx="4500720" cy="2160720"/>
          </a:xfrm>
          <a:prstGeom prst="wedgeRectCallout">
            <a:avLst>
              <a:gd name="adj1" fmla="val 94171"/>
              <a:gd name="adj2" fmla="val 1098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Масленников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9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0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95280" y="1341360"/>
            <a:ext cx="8353440" cy="1656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зовите фамилию маршала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 честь которого   была названа дивизия. В каком году и почему присвоено это им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ршала Малиновск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19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0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ому из уральцев  посвящена песня «Василь Василич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9-летний уральский токарь Василий Гусев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19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95280" y="1341360"/>
            <a:ext cx="8353440" cy="2158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колько было подано заявлений и сколько уральцев было отправлено в УДТК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utoShape 6"/>
          <p:cNvSpPr/>
          <p:nvPr/>
        </p:nvSpPr>
        <p:spPr>
          <a:xfrm rot="10800000">
            <a:off x="4858920" y="3500280"/>
            <a:ext cx="360036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дано 110 тысяч заявлений Принято  966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Picture 19" descr="Рисунок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25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71400" y="-519120"/>
            <a:ext cx="10486800" cy="789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C:\Users\User\Desktop\кл час удтк\собранные САУ маленькое (1).jpg"/>
          <p:cNvPicPr/>
          <p:nvPr/>
        </p:nvPicPr>
        <p:blipFill>
          <a:blip r:embed="rId2"/>
          <a:stretch/>
        </p:blipFill>
        <p:spPr>
          <a:xfrm>
            <a:off x="2484360" y="333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User\Desktop\кл час удтк\Д25С на проверке.jpg"/>
          <p:cNvPicPr/>
          <p:nvPr/>
        </p:nvPicPr>
        <p:blipFill>
          <a:blip r:embed="rId3"/>
          <a:stretch/>
        </p:blipFill>
        <p:spPr>
          <a:xfrm>
            <a:off x="0" y="476280"/>
            <a:ext cx="304812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User\Desktop\кл час удтк\сборка гаубиц.jpg"/>
          <p:cNvPicPr/>
          <p:nvPr/>
        </p:nvPicPr>
        <p:blipFill>
          <a:blip r:embed="rId4"/>
          <a:stretch/>
        </p:blipFill>
        <p:spPr>
          <a:xfrm>
            <a:off x="539640" y="4076640"/>
            <a:ext cx="3048120" cy="22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User\Desktop\кл час удтк\поточная линия сборки СУ.jpg"/>
          <p:cNvPicPr/>
          <p:nvPr/>
        </p:nvPicPr>
        <p:blipFill>
          <a:blip r:embed="rId5"/>
          <a:stretch/>
        </p:blipFill>
        <p:spPr>
          <a:xfrm>
            <a:off x="6095880" y="0"/>
            <a:ext cx="3048120" cy="2295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User\Desktop\кл час удтк\САУ выходит из ворот 101 цеха.jpg"/>
          <p:cNvPicPr/>
          <p:nvPr/>
        </p:nvPicPr>
        <p:blipFill>
          <a:blip r:embed="rId6"/>
          <a:stretch/>
        </p:blipFill>
        <p:spPr>
          <a:xfrm>
            <a:off x="3924360" y="3500280"/>
            <a:ext cx="3048120" cy="290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User\Desktop\кл час удтк\Сборка танка Т-34. 1942 год.jpg"/>
          <p:cNvPicPr/>
          <p:nvPr/>
        </p:nvPicPr>
        <p:blipFill>
          <a:blip r:embed="rId7"/>
          <a:stretch/>
        </p:blipFill>
        <p:spPr>
          <a:xfrm>
            <a:off x="6516720" y="2565360"/>
            <a:ext cx="3048120" cy="20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колько добровольцев танкового корпуса стали Героями Советского Союза и полными кавалерами Ордена Славы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граждено-42368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38 гвардейцев-Герои Советского Союз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27 солдат и сержантов- Полные Кавалеры ордена Славы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9" descr="Рисунок1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0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ое имя и фамилия зашифрованы в названии советского танка «ИС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осиф Стал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Picture 19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0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57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 расшифровывается Аббревиатура «КВ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лим Ворошил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Picture 19" descr="Рисунок1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nodeType="clickEffect" fill="hold">
                      <p:stCondLst>
                        <p:cond delay="0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694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95280" y="1341360"/>
            <a:ext cx="8353440" cy="19432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акой танк с момента своего рождения стал шедевром мирового танкостроения? Назови  имя его конструктор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-34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Михаил Кошкин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19" descr="Рисунок1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nodeType="clickEffect" fill="hold">
                      <p:stCondLst>
                        <p:cond delay="0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81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огда и где произошёл первый выпуск танка   и почему он стал самым массовым танком СССР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AutoShape 6"/>
          <p:cNvSpPr/>
          <p:nvPr/>
        </p:nvSpPr>
        <p:spPr>
          <a:xfrm rot="10800000">
            <a:off x="521928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940 год Харьковское конструкторское бюро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19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nodeType="clickEffect" fill="hold">
                      <p:stCondLst>
                        <p:cond delay="0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94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42920" y="1268280"/>
            <a:ext cx="8605800" cy="17290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акое отношение к войне имеют такие животные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как «Пантеры»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«Тигры» и «Леопарды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Это немецкие танки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19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nodeType="clickEffect" fill="hold">
                      <p:stCondLst>
                        <p:cond delay="0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063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акое название получило советское реактивное орудие залпового огня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СЗО БМ-13-16", реактивная система залпового огня «Катюша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9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nodeType="clickEffect" fill="hold">
                      <p:stCondLst>
                        <p:cond delay="0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5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86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95280" y="1341360"/>
            <a:ext cx="8353440" cy="187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каком году и на каком заводе была выпущена первая реактивная миномётная установ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 июня 1941 года Воронежский завод им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Коминтерн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19" descr="Рисунок1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nodeType="clickEffect" fill="hold">
                      <p:stCondLst>
                        <p:cond delay="0"/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30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 какой медали времён Великой Отечественной войны увековечен танк Т-34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«За оборону Москвы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19" descr="Рисунок1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nodeType="clickEffect" fill="hold">
                      <p:stCondLst>
                        <p:cond delay="0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2432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2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огда  получил первое боевое крещение  30-й УДТК? Назовите дату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год и боевую операцию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Лето 1943 года севернее города Орёл битва на Курской дуге операция «Цитад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19" descr="Рисунок1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0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8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555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71400" y="-519120"/>
            <a:ext cx="10486800" cy="789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ds02.infourok.ru/uploads/ex/02c6/00077cd5-f1ccd400/hello_html_m6c9ab1b2.jpg"/>
          <p:cNvPicPr/>
          <p:nvPr/>
        </p:nvPicPr>
        <p:blipFill>
          <a:blip r:embed="rId2"/>
          <a:srcRect l="0" t="1512" r="0" b="0"/>
          <a:stretch/>
        </p:blipFill>
        <p:spPr>
          <a:xfrm>
            <a:off x="2124000" y="2349360"/>
            <a:ext cx="3667320" cy="468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ljplus.ru/img4/b/o/bodybuilder2007/Pl-7.jpg"/>
          <p:cNvPicPr/>
          <p:nvPr/>
        </p:nvPicPr>
        <p:blipFill>
          <a:blip r:embed="rId3"/>
          <a:srcRect l="15121" t="4809" r="14781" b="7114"/>
          <a:stretch/>
        </p:blipFill>
        <p:spPr>
          <a:xfrm>
            <a:off x="-396720" y="-243000"/>
            <a:ext cx="367344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deshevlevseh-plus.ru/thumb/48865-0-Sovetskiy-plakat-Vse-dlya-fronta-Vse-dlya-pobedy-1942-Lisickiy.jpg"/>
          <p:cNvPicPr/>
          <p:nvPr/>
        </p:nvPicPr>
        <p:blipFill>
          <a:blip r:embed="rId4"/>
          <a:stretch/>
        </p:blipFill>
        <p:spPr>
          <a:xfrm>
            <a:off x="5651640" y="0"/>
            <a:ext cx="392400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огда и за что корпус получил  звание «Уральско-Львовский»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1943 году за боевые заслуги в ходе боевой операции по освобождению Укра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19" descr="Рисунок2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nodeType="clickEffect" fill="hold">
                      <p:stCondLst>
                        <p:cond delay="0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678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 какой операции  части корпуса разгромили танковые дивизии  «Охрана фюрера»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«Богемия» и пленили штаб дивизии СС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Берлинская опер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1" name="Picture 1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nodeType="clickEffect" fill="hold">
                      <p:stCondLst>
                        <p:cond delay="0"/>
                      </p:stCondLst>
                      <p:childTnLst>
                        <p:par>
                          <p:cTn id="2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0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2801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2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азовите дату и год боевой операции в освобождении столицы Чехословаки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06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05 1945-09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05. 194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Picture 19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6" dur="indefinite" restart="never" nodeType="tmRoot">
          <p:childTnLst>
            <p:seq>
              <p:cTn id="2807" dur="indefinite" nodeType="mainSeq">
                <p:childTnLst>
                  <p:par>
                    <p:cTn id="2808" nodeType="clickEffect" fill="hold">
                      <p:stCondLst>
                        <p:cond delay="0"/>
                      </p:stCondLst>
                      <p:childTnLst>
                        <p:par>
                          <p:cTn id="2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7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3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2924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Где и когда проходила Проскуровско-Черновицкая операц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AutoShape 6"/>
          <p:cNvSpPr/>
          <p:nvPr/>
        </p:nvSpPr>
        <p:spPr>
          <a:xfrm rot="10800000">
            <a:off x="507636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04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03 1944-18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04 1944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Штурм Каменец-Подольск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19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9" dur="indefinite" restart="never" nodeType="tmRoot">
          <p:childTnLst>
            <p:seq>
              <p:cTn id="2930" dur="indefinite" nodeType="mainSeq">
                <p:childTnLst>
                  <p:par>
                    <p:cTn id="2931" nodeType="clickEffect" fill="hold">
                      <p:stCondLst>
                        <p:cond delay="0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0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3047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колько корпусу и его воинам вручено боевых орденов и медале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42 368  орденов и медалей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Picture 19" descr="Рисунок2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2" dur="indefinite" restart="never" nodeType="tmRoot">
          <p:childTnLst>
            <p:seq>
              <p:cTn id="3053" dur="indefinite" nodeType="mainSeq">
                <p:childTnLst>
                  <p:par>
                    <p:cTn id="3054" nodeType="clickEffect" fill="hold">
                      <p:stCondLst>
                        <p:cond delay="0"/>
                      </p:stCondLst>
                      <p:childTnLst>
                        <p:par>
                          <p:cTn id="3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3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9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3170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3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71400" y="-519120"/>
            <a:ext cx="10486800" cy="7896240"/>
          </a:xfrm>
          <a:prstGeom prst="rect">
            <a:avLst/>
          </a:prstGeom>
          <a:ln w="0">
            <a:noFill/>
          </a:ln>
        </p:spPr>
      </p:pic>
      <p:pic>
        <p:nvPicPr>
          <p:cNvPr id="544" name="окончание.mp4" descr=""/>
          <p:cNvPicPr/>
          <p:nvPr/>
        </p:nvPicPr>
        <p:blipFill>
          <a:blip r:embed="rId2"/>
          <a:stretch/>
        </p:blipFill>
        <p:spPr>
          <a:xfrm>
            <a:off x="-468360" y="-387360"/>
            <a:ext cx="10296720" cy="69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5" dur="indefinite" restart="never" nodeType="tmRoot">
          <p:childTnLst>
            <p:seq>
              <p:cTn id="3176" dur="indefinite" nodeType="mainSeq">
                <p:childTnLst>
                  <p:par>
                    <p:cTn id="3177" nodeType="clickEffect" fill="hold">
                      <p:stCondLst>
                        <p:cond delay="0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0" dur="8001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318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Users\User\Desktop\кл час удтк\oboik.ru_25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2" descr=""/>
          <p:cNvPicPr/>
          <p:nvPr/>
        </p:nvPicPr>
        <p:blipFill>
          <a:blip r:embed="rId2"/>
          <a:stretch/>
        </p:blipFill>
        <p:spPr>
          <a:xfrm>
            <a:off x="1054080" y="317520"/>
            <a:ext cx="770580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611280" y="2667600"/>
            <a:ext cx="77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Вы –Молодцы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86" dur="indefinite" restart="never" nodeType="tmRoot">
          <p:childTnLst>
            <p:seq>
              <p:cTn id="3187" dur="indefinite" nodeType="mainSeq">
                <p:childTnLst>
                  <p:par>
                    <p:cTn id="3188" nodeType="clickEffect" fill="hold">
                      <p:stCondLst>
                        <p:cond delay="indefinite"/>
                      </p:stCondLst>
                      <p:childTnLst>
                        <p:par>
                          <p:cTn id="3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er\Desktop\кл час удтк\fony-dlya-prezentacii-po-istorii-04.jpg"/>
          <p:cNvPicPr/>
          <p:nvPr/>
        </p:nvPicPr>
        <p:blipFill>
          <a:blip r:embed="rId1"/>
          <a:stretch/>
        </p:blipFill>
        <p:spPr>
          <a:xfrm>
            <a:off x="-684360" y="-531720"/>
            <a:ext cx="10487160" cy="7896240"/>
          </a:xfrm>
          <a:prstGeom prst="rect">
            <a:avLst/>
          </a:prstGeom>
          <a:ln w="0">
            <a:noFill/>
          </a:ln>
        </p:spPr>
      </p:pic>
      <p:pic>
        <p:nvPicPr>
          <p:cNvPr id="102" name="videoplayback (3).mp4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589312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076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ahoma"/>
              </a:rPr>
              <a:t>Интеллект – игра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ahoma"/>
              </a:rPr>
              <a:t>«УДТК. Сердцем народа рождённый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5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а иг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6" descr="f0060489_49b2163340f34_40q3g013hgkkk484848o804w0_ejcuplo1l0oo0sk8c40s8osc4_th"/>
          <p:cNvPicPr/>
          <p:nvPr/>
        </p:nvPicPr>
        <p:blipFill>
          <a:blip r:embed="rId2"/>
          <a:stretch/>
        </p:blipFill>
        <p:spPr>
          <a:xfrm>
            <a:off x="1258920" y="3645000"/>
            <a:ext cx="395928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24000" y="1773360"/>
            <a:ext cx="8496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Через 3 секунды после появления вопроса запускается тайм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ремя на обдумывание – 10 секун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Для проверки щелкните мышью по слову «Ответ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7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ча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исунок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20" y="5000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Рисунок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Рисунок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Рисунок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Рисунок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Рисунок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0104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Рисунок7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9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Рисунок8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3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Рисунок9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7672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Рисунок1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71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Рисунок11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15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Рисунок12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59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Рисунок13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Рисунок1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83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Рисунок15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27672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Рисунок16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471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Рисунок17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15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Рисунок18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59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Рисунок19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39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Рисунок2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183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Рисунок2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327672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Рисунок23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471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Рисунок24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15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Рисунок25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596360" y="4579920"/>
            <a:ext cx="1255680" cy="125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8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29">
            <a:hlinkClick r:id="" action="ppaction://hlinkshowjump?jump=endshow"/>
          </p:cNvPr>
          <p:cNvSpPr/>
          <p:nvPr/>
        </p:nvSpPr>
        <p:spPr>
          <a:xfrm>
            <a:off x="7740720" y="623736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73f1ac"/>
          </a:solidFill>
          <a:ln w="0">
            <a:noFill/>
          </a:ln>
          <a:effectLst>
            <a:outerShdw dist="17819" dir="2700000" blurRad="0" rotWithShape="0">
              <a:srgbClr val="4591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03:40Z</dcterms:created>
  <dc:creator>СЕРГЕЙ</dc:creator>
  <dc:description/>
  <dc:language>en-US</dc:language>
  <cp:lastModifiedBy>Natalya S. Terekhina</cp:lastModifiedBy>
  <dcterms:modified xsi:type="dcterms:W3CDTF">2020-04-09T10:49:27Z</dcterms:modified>
  <cp:revision>44</cp:revision>
  <dc:subject/>
  <dc:title>Слайд 1</dc:title>
</cp:coreProperties>
</file>